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3.wmf" ContentType="image/x-wmf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A319-DDEA-4BB8-846D-2993AD6CAB0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6875-B754-4B7A-9C41-2ADDFB0F050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B94-1DE3-4DDE-BB18-D8BEBB8F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C08-E65F-46E9-8068-06B8D76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815-90CA-45C5-8AB3-36ABCEFA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3F7-C319-4A61-B1FF-8C179424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0F9B-F57C-4B51-B644-C4804E62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974B-99B5-48E3-B926-F02B40A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795-21C9-46AF-B1D5-8A5299E8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A4BC-070C-4664-939C-A6FBEC8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9E0-0B5D-40DA-9528-4E7A66C2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2913-873B-4188-A507-57A314E8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FD23-AC6C-4B55-950F-E8AC752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F9B-EBE8-428A-B683-B600C868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35A-95D4-4BBA-8A47-9667E8F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5C9B-5698-4B78-9326-143FEAE4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02F-5762-4E2B-8F09-F135ED4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A774-1E8F-478D-8B5E-33047117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0C8-B1C6-4C33-B439-609EA406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55EE2-4C68-487A-BF62-42FF5E7391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3CE86B-333B-48D0-9E5F-927750DF40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737FE2-0408-4B97-A3D1-9256C07C1D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5A031B-5454-4D56-B9F3-443EA306DF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4B3D12-335D-48A1-98C6-9570A1DF96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635-CFE6-4C60-9609-727AF4F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E1987-CFC8-4AE8-981B-7EA94AA3D4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16C8DE-A984-4F69-BF32-78E0612958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061A0-FCD3-456E-91AD-CE21A31C6C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DF5986-1DC1-4D4A-9CE2-6AC1E1B71F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02783-578E-49C3-85CE-42267FB54C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484D9-1F14-4E9C-99AF-7A4F0036D7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7DA2C-DEEB-4077-B6E4-EFFC37B1AB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37439-ABB5-4166-88DD-B67988BB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39DE2-0439-442F-A133-143EF2E7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ECF6B-D05D-4ED0-936A-5FF9576B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E8D-53F2-4781-A428-818B1E8C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696AF-A499-4C6D-8843-EF605584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FABE6-2315-4E47-AB4E-29740D16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C1047-16DB-46C6-9F85-55ED018E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CB6493-FA7C-4845-97B0-7D87C56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DA056-8470-4243-A31F-EBE636E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4BF18-5BD4-4935-A1E0-55243265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80FDD-9C07-4DB1-8607-681DE3AE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85726-0EEC-4BB5-8825-EE27C37B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1D1CF-F473-455D-B6B5-AE2A95AA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EC6-62F4-4B76-8517-1B05EFF4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C91-4E7C-4A92-AF15-0DB73DA9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0FFE4-3519-45C0-8A48-F2CBC838E5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271E1-F1C4-4E62-9B72-F834ED1A6B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1B0D9-07F4-45F5-B1DD-BA2A1385FB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BA744-576F-47A0-8375-62C07C786D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9A00C-5380-481F-938F-6B1FB3EF5F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0B40C-6DC1-48C0-BECD-9CF3D62D9D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221A6-12B2-4A7A-A8E7-41A3771E6DB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E02E9-4300-4F4A-8017-4F83B091C05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6E29A-9AE9-4B5D-8F63-A488D744E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D50-A10E-4AD6-B19C-FC28F2C7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E8A4E-8ECC-49EB-A7D7-B3F699D8E0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70F5E-AFA9-447E-8F28-F4AA953C5C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FB1A0-8E67-4150-B6FD-48606CEEF7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3AFD-CE0A-4ECF-8AC0-B2CE96EF3C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7579A-467F-47BC-BE99-0962F84A2A6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6586-3B0C-4783-AA57-B632956837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1F466-17F3-428B-B689-4AF031450E8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9454-27CB-44B5-9305-659F0D70F4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87F1-BB84-4969-807D-BB258440B6A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6053-8AF2-43E5-81BB-C2FCB26CD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A16-79E7-4F68-A9A3-2F37165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0FDB-DAF6-467F-8B0E-A8AA52EBAD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4C69-4B92-482E-BA59-50231D7E3A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70CF-1D2B-4BB4-99E9-EAEEE6B277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1FAFC-F47C-4D5B-B916-A2681C6321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BCEF6-42A9-4DDA-8F57-BBF1AE4D7C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AEE-8085-49C3-96F2-A07CDFF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042920" y="115560"/>
            <a:ext cx="73152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58C-56CE-499F-BAFD-E9C55AE2B1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F380-9008-43C7-B81B-AF2FE28E5D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9ED6-187D-4566-BAB4-78D369E31FA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slayd_tit_down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slayd_tit_down"/>
          <p:cNvPicPr/>
          <p:nvPr/>
        </p:nvPicPr>
        <p:blipFill>
          <a:blip r:embed="rId3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0"/>
          <p:cNvSpPr/>
          <p:nvPr/>
        </p:nvSpPr>
        <p:spPr>
          <a:xfrm>
            <a:off x="184320" y="115920"/>
            <a:ext cx="87073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8e8e8"/>
                </a:solidFill>
                <a:latin typeface="Arial"/>
              </a:rPr>
              <a:t>Статистика дел Федеральной антимонопольной службы (2002 – 200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609480" y="6553080"/>
            <a:ext cx="0" cy="304920"/>
          </a:xfrm>
          <a:prstGeom prst="line">
            <a:avLst/>
          </a:prstGeom>
          <a:ln w="9360">
            <a:solidFill>
              <a:srgbClr val="738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slayd_tit_down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едеральная антимонопольная служб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F581-2C05-4C1C-85F6-B9245255B7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1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7C17-1D8D-46AC-B3F3-A89E4AC79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2"/>
          </p:nvPr>
        </p:nvSpPr>
        <p:spPr>
          <a:xfrm>
            <a:off x="-360" y="6467040"/>
            <a:ext cx="93996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BB7-E5B0-4942-B340-D8225F746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slayd_tit"/>
          <p:cNvPicPr/>
          <p:nvPr/>
        </p:nvPicPr>
        <p:blipFill>
          <a:blip r:embed="rId2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slayd_tit_down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slayd_tit"/>
          <p:cNvPicPr/>
          <p:nvPr/>
        </p:nvPicPr>
        <p:blipFill>
          <a:blip r:embed="rId4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layd_tit_down"/>
          <p:cNvPicPr/>
          <p:nvPr/>
        </p:nvPicPr>
        <p:blipFill>
          <a:blip r:embed="rId5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slayd_tit"/>
          <p:cNvPicPr/>
          <p:nvPr/>
        </p:nvPicPr>
        <p:blipFill>
          <a:blip r:embed="rId6"/>
          <a:stretch/>
        </p:blipFill>
        <p:spPr>
          <a:xfrm>
            <a:off x="0" y="0"/>
            <a:ext cx="9144000" cy="245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slayd_tit_down"/>
          <p:cNvPicPr/>
          <p:nvPr/>
        </p:nvPicPr>
        <p:blipFill>
          <a:blip r:embed="rId7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388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3f3f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88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95280" y="620280"/>
            <a:ext cx="7956720" cy="528948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2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A3F-8884-4A50-BE46-64E3DED54BB2}" type="slidenum">
              <a:rPr b="0" lang="ru-RU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5"/>
          <p:cNvSpPr/>
          <p:nvPr/>
        </p:nvSpPr>
        <p:spPr>
          <a:xfrm>
            <a:off x="324000" y="260280"/>
            <a:ext cx="8135640" cy="74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О создании и организации системы внутреннего обеспечения соответствия требованиям антимонопольного законодательст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rebuchet MS"/>
              </a:rPr>
              <a:t>( Антимонопольный комплаен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Князева Ири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Доктор экономических наук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Центр исследования конкурентной политик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СИУ РАНХиГ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rebuchet MS"/>
              </a:rPr>
              <a:t>Новосибирск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Национальный  план развития конкуренции в Российской Федерации на 2018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c00000"/>
                </a:solidFill>
                <a:latin typeface="TimesNewRomanPSMT"/>
              </a:rPr>
              <a:t>2020 годы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50920" y="981000"/>
            <a:ext cx="8555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  <a:ea typeface="Arial"/>
              </a:rPr>
              <a:t>1. 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ограничение создания унитарных предприятий на конкурентных рынка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2. запрет прямого или косвенного приобретения государством и муниципальными образованиями акций и долей хозяйственных обществ, осуществляющих деятельность на товарных рынках в условиях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3. правовое регулирование системы внутреннего обеспечения соответствия требованиям антимонопольного законодательства  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4. в каждом субъекте Федерации разработка дорожной карты по развитию конкуренци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5. обеспечение во всех отраслях экономики РФ присутствия не менее трех хозяйствующих субъектов, не менее чем один из которых относится к частному бизнесу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  <a:ea typeface="Arial"/>
              </a:rPr>
              <a:t>6. разработка конкурентного законодательства на цифровых рынках</a:t>
            </a:r>
            <a:r>
              <a:rPr b="0" lang="ru-RU" sz="2600" spc="-1" strike="noStrike">
                <a:solidFill>
                  <a:srgbClr val="3f3f3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2400" spc="-1" strike="noStrike">
                <a:solidFill>
                  <a:srgbClr val="c00000"/>
                </a:solidFill>
                <a:latin typeface="Arial"/>
              </a:rPr>
              <a:t>https://fas.gov.ru/pages/vazhnaya-informacziya/standart-razvitiya-konkurenczii/standart-test-one.html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C4FA-571B-4CF8-8AAE-86416987B51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54080" y="1052640"/>
            <a:ext cx="8574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ы, на которые распространяется сфера применения  Федерального закона РФ № 135-ФЗ «О Защите конкуренции»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1392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Федеральные органы исполнительной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государственной власти субъектов Российской Федераци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рганы местного самоуправления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равненные к ним органы власти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Центральный банк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енсионные фон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Перечень организационно-распорядительных  и информационно-справочных документов, в отношении которых может осуществляться  антимонопольный надзор и контроль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600200"/>
          <a:ext cx="8229600" cy="370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иказ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рото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Распоря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Догов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остано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И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нтиконкурентные акты и действия органов власти  в соответствии с 135 –ФЗ «О защите конкуренции»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ГЛАВА 3. СТ.1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ЧИВАЮЩИЕ КОНКУРЕНЦИЮ АКТЫ И ДЕЙСТВИЯ (БЕЗДЕЙСТВИЯ)  ФОИВ, ОРГАНОВ ГОСУДАРСТВЕННОЙ ВЛАСТИ СУБЪЕКТОВ РФ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МЕСТНОГО САМОУПРАВЛЕНИЯ, ИНЫХ НАДЕЛЕННЫХ ФУНКЦИЯМИ ИЛИ ПРАВАМИ УКАЗАННЫХ ОРГАНОВ ВЛАСТИ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РГАНОВ ИЛИ ОРГАНИЗАЦИЙ, УЧАСТВУЮЩИХ В ПРЕДОСТАВЛЕНИИ ГОСУДАРСТВЕННЫХ И МУНИЦИПАЛЬНЫХ УСЛУГ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СТ. 16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ЗАПРЕТ НА ОГРАНИВАЮЩИЕ КОНКУРЕНЦИЮ СОГЛАШЕНИЯ  ИЛИ СОГЛАСОВАННЫЕ ДЕЙСТВИЯ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. 4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ТИМОНОПОЛЬНЫЕ ТРЕБОВАНИЯ К ТОРГАМ ГОСУДАРСТВЕННЫМ И МУНИЦИПАЛЬНЫМ ИМУЩЕСТВОМ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ГЛАВА 5. </a:t>
            </a:r>
            <a:r>
              <a:rPr b="0" lang="ru-RU" sz="20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КОНТРОЛЬ ЗА ГОСУДАРСТВЕННЫМИ И МУНИЦИПАЛЬНЫМИ ПРЕФЕРЕНЦИЯМ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5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DB84-9F5F-42C6-99B5-D8CEB0D973F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D11A-0B43-45FD-948E-05894125E39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еречень запрещенных актов и действия органов власти, направленных на ограничение конкуренции ( ст.15 гл.3)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469800" y="692280"/>
            <a:ext cx="856944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ить ограничения в отношении создания новых ХС в какой-либо сфере деятельности, а также установление запретов  или введение  ограничении в отношении осуществления отдельных видов деятельности или производства определенных видов това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900000" y="5013360"/>
            <a:ext cx="7920000" cy="4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едоставление государственной или муниципальной  преференции в нарушение требований  гл. 5 ; создание дискриминационных услов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900000" y="4076640"/>
            <a:ext cx="792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авать ХС указания о первоочередной поставке товаров (выполнение работ, оказание услуг) определенному кругу покупателей (заказчиков) или о приоритетном заключении догово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900000" y="3213000"/>
            <a:ext cx="7709040" cy="669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и взимать не установленные законодательством РФ платежи при предоставлении государственных и муниципальных услуг, а также услуг , необходимых и сопутству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900000" y="5734080"/>
            <a:ext cx="778032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доставлять отдельному ХС или нескольким ХС льготы, ставящие их в преимущественное положение по отношению к другим ХС, работающим на рынок того же тов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>
            <a:off x="900000" y="1700280"/>
            <a:ext cx="770436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станавливать запреты или введение  ограничений  в отношении перемещения товаров из одного региона РФ  в другой или иным образом ограничить права ХС на продажу (приобретение, покупку, обмен) това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900000" y="2716200"/>
            <a:ext cx="7709040" cy="27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3d9dd"/>
              </a:gs>
              <a:gs pos="100000">
                <a:srgbClr val="eef5f6"/>
              </a:gs>
            </a:gsLst>
            <a:lin ang="16200000"/>
          </a:gradFill>
          <a:ln w="9360">
            <a:solidFill>
              <a:srgbClr val="789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обоснованно препятствовать осуществлению деятельности ХС в какой-либо сфер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250920" y="404640"/>
            <a:ext cx="0" cy="561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250920" y="602136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304920" y="530064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304920" y="4437000"/>
            <a:ext cx="577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250920" y="350028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5"/>
          <p:cNvSpPr/>
          <p:nvPr/>
        </p:nvSpPr>
        <p:spPr>
          <a:xfrm>
            <a:off x="250920" y="2852640"/>
            <a:ext cx="63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6"/>
          <p:cNvSpPr/>
          <p:nvPr/>
        </p:nvSpPr>
        <p:spPr>
          <a:xfrm>
            <a:off x="304920" y="20606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1"/>
          <p:cNvSpPr/>
          <p:nvPr/>
        </p:nvSpPr>
        <p:spPr>
          <a:xfrm>
            <a:off x="692280" y="6173640"/>
            <a:ext cx="34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4"/>
          <p:cNvSpPr/>
          <p:nvPr/>
        </p:nvSpPr>
        <p:spPr>
          <a:xfrm>
            <a:off x="133200" y="1128600"/>
            <a:ext cx="34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4FEF-6F43-40A3-BA4D-95D77B33A50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178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руктура возбужденных дел в отношении антиконкурентных актов и действий органов власти в 2018г. по системе ФАС России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249800" cy="496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648320" y="981000"/>
          <a:ext cx="3886200" cy="5400720"/>
        </p:xfrm>
        <a:graphic>
          <a:graphicData uri="http://schemas.openxmlformats.org/drawingml/2006/table">
            <a:tbl>
              <a:tblPr/>
              <a:tblGrid>
                <a:gridCol w="284040"/>
                <a:gridCol w="3602160"/>
              </a:tblGrid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еобоснованное препятствование осуществлению деятельности х/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деление х/с властными функ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ограничений в выборе продав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едоставление  государственной или муниципальной префер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вмещение функций органов власти с функциями х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запретов на перемещение, продажу това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казания  о  приоритетной поставке товаров, заключении догов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граничение на создание новых х/с, установление запретов на отдельные виды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инамика нарушений антимонопольного законодательства  органами власти всех уровней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893-28B6-44F3-BEF2-15A7462F461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46120" y="1628640"/>
            <a:ext cx="7110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Возбуждено дел о нарушении антимонопольного законодательства (2014-2018)*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0" y="6467400"/>
            <a:ext cx="68756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C3B-FAA4-4596-A358-D9201555F69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* Материалы  Государственного доклада о состоянии конкуренции 2018 г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55440" y="1197000"/>
            <a:ext cx="8837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692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рение института предупреждения и предостережения, распространение его на действия органов государственной власти и местного самоуправления с 2016 г.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. 15, 39.1,25.7"О защите конкурен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)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яется механизм оперативного устранения антимонопольных правонарушений со стороны должностных лиц органов власти (ст.25.7)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 другой стороны - механизм ужесточе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овторном нарушении штраф от 30 до 50 тыс. руб. или дисквалификация до 3 лет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3CBF-00D0-4FDA-A208-0DDCAE9E5CA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CBE-1419-49F2-89C2-68DBFB66AF0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еятельность государства должна быть направлена на совершенствование рынка, а не на отмену или обход его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Дж.Гэлбрэйт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358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татья 39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 Предупреждение о прекращении действий (бездействия), которые содержат признаки нарушения АМЗ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ях пресечения нарушений в сфере предпринимательской деятельности, антимонопольный орган выдает ФОИВ, органу государственной власти субъекта РФ, органу МСУ, иным осуществляющим функции указанных органов органу или организации, организации, участвующей в предоставлении государственных или муниципальных услуг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исьменной форме о прекращении действий (бездействия), об отмене или изменении актов, которые содержат признаки нарушения АМЗ, либо об устранении причин и условий, способствовавших возникновению такого нарушения, и о принятии мер по устранению последствий такого нарушения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едупреждение</a:t>
            </a: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ается 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цам, в случае выявления признаков нарушения 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ст. </a:t>
            </a:r>
            <a:r>
              <a:rPr b="0" lang="ru-RU" sz="2400" spc="-1" strike="noStrike" u="sng">
                <a:solidFill>
                  <a:srgbClr val="0079a4"/>
                </a:solidFill>
                <a:uFillTx/>
                <a:latin typeface="Arial"/>
                <a:hlinkClick r:id="rId1" action="ppaction://hlinksldjump"/>
              </a:rPr>
              <a:t>15</a:t>
            </a:r>
            <a:r>
              <a:rPr b="1" lang="ru-RU" sz="2400" spc="-1" strike="noStrike">
                <a:solidFill>
                  <a:srgbClr val="738899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8EF5-74B5-446F-B76C-858ABD6645A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3864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явлено нарушений антимонопольного законодательства (2014-2018 гг)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D7F-D92F-4DC6-8CC3-D03FCDE37D1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92120" y="1773360"/>
            <a:ext cx="804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отношение возбужденных дел и выданных предупреждени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3A3-94BE-42AD-B119-9948BE11A7F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6320" y="1125360"/>
            <a:ext cx="8816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ичество выданных и исполненных предупреждений , всего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60B0-4F63-4F09-950B-094B3A98F71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326880" y="2133720"/>
            <a:ext cx="85662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ля исполненных предупреждений по различным видам нарушений АМЗ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91CC-B905-44B7-B548-56C4DB675B1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230040" y="1484280"/>
            <a:ext cx="83026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712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правления предостережения , в т.ч. должностным лицам ФОИВ, органа государственной власти субъекта РФ, органа МСУ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1482-76AB-4275-82F6-27D243F024E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520560" y="1700280"/>
            <a:ext cx="77965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сечение ограничивающих конкуренцию действий (бездействия) органов государственной власти и органов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949-DC9D-48FC-B1CB-8E059628668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82600" y="2060640"/>
            <a:ext cx="865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8897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оглашения с участием органов государственной власти и  местного самоуправл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F1D-A090-436A-AF3D-21F2499EA16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буждено дел о преференциях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FE76-B2BD-4374-A1E2-F75390099C6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03040" y="1413000"/>
            <a:ext cx="82566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107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езультаты рассмотрения заявлений о предоставлении преференций в  2018  г</a:t>
            </a: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2C5B-A794-421C-A877-3BC66337C7F8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309600" y="1125360"/>
            <a:ext cx="82231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6D5-5948-47B7-BC24-3D7770CB151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7487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Перечень законов, контроль  исполнение которых осуществляет ФАС России</a:t>
            </a:r>
            <a:r>
              <a:rPr b="0" lang="ru-RU" sz="4200" spc="-1" strike="noStrike">
                <a:solidFill>
                  <a:srgbClr val="7388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25"/>
          <p:cNvSpPr/>
          <p:nvPr/>
        </p:nvSpPr>
        <p:spPr>
          <a:xfrm>
            <a:off x="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24"/>
          <p:cNvGraphicFramePr/>
          <p:nvPr/>
        </p:nvGraphicFramePr>
        <p:xfrm>
          <a:off x="244440" y="701640"/>
          <a:ext cx="8012160" cy="57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701640"/>
                    <a:ext cx="801216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107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атья 39. Основания для возбуждения дела о нарушении антимонопольного законодательства (АМЗ)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8000" y="691920"/>
            <a:ext cx="90360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упление из государственных органов, органов местного самоуправления материалов, указывающих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заявление юридического или физического лица, указывающее на признаки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обнаружение антимонопольным органом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сообщение средства массовой информации, указывающее на наличие признаков нарушения АМЗ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зультат проверки, при проведении которой выявлены признаки нарушения АМЗ федеральными органами исполнительной власти, органами государственной власти субъектов РФ, органами местного самоуправления, иными осуществляющими функции указанных органов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9591-82AB-4AF9-B0EC-E8E1FB34B68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Структура и количество выданных предписаний органам власти разных уровней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pic>
        <p:nvPicPr>
          <p:cNvPr id="441" name="Объект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6840720" cy="2622600"/>
          </a:xfrm>
          <a:prstGeom prst="rect">
            <a:avLst/>
          </a:prstGeom>
          <a:ln w="0">
            <a:noFill/>
          </a:ln>
        </p:spPr>
      </p:pic>
      <p:sp>
        <p:nvSpPr>
          <p:cNvPr id="44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670-F53A-4D61-B05D-16C0FDDBFC8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611280" y="4076640"/>
          <a:ext cx="7777080" cy="1123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39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ами в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д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3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вы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f3f3f"/>
                          </a:solidFill>
                          <a:latin typeface="Arial"/>
                        </a:rPr>
                        <a:t>2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A9AA-DC37-4F69-AEE7-AD4EF02340C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осударственные или муниципальные преференции могут быть предоставлены на основании правовых актов органов власти исключительно в целях:</a:t>
            </a:r>
            <a:br>
              <a:rPr sz="1800"/>
            </a:br>
            <a:endParaRPr b="0" lang="en-US" sz="1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738899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) обеспечения жизнедеятельности населения в районах Крайнего Севера и приравненных к ним местностях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2) развития образования и наук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3) проведения научных исследовани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4) защиты окружающей среды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5) сохранения, использования, популяризации и государственной охраны объектов культурного наследия (памятников истории и культуры) народов Российской Федера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6) развития культуры, искусства и сохранения культурных ценностей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7) развития физической культуры и спорт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8) обеспечения обороноспособности страны и безопасности государ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9) производства сельскохозяйственной продукции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0) социальной защиты населения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1) охраны труд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2) охраны здоровья граждан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3) поддержки субъектов малого и среднего предпринимательства;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38899"/>
                </a:solidFill>
                <a:latin typeface="Arial"/>
              </a:rPr>
              <a:t>14) определяемых другими ФЗ, нормативными правовыми актами Президента РФ и нормативными правовыми актами Правительства РФ.</a:t>
            </a:r>
            <a:endParaRPr b="0" lang="en-US" sz="16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5FC0-01BB-49E9-A0C4-89076F47278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691920"/>
            <a:ext cx="7925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овторяющиеся нарушения антимонопольного законодательства со стороны органов власти и местного самоуправления являются опасной тенденцией, которая представляет постоянную угрозу конкуренции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8899"/>
                </a:solidFill>
                <a:latin typeface="Arial"/>
              </a:rPr>
              <a:t>Перед антимонопольным ведомством стоит важная задача - усиление антимонопольного контроля за деятельностью органов государственной власти. «Повышена административная ответственность для государственных и муниципальных служащих за нарушение антимонопольного законодательства: введена дисквалификация в качестве меры ответственности», - отмечал в своем докладе руководитель ФАС России Игорь Артемьев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034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00000"/>
                </a:solidFill>
                <a:latin typeface="Arial"/>
              </a:rPr>
              <a:t>Антимонопольный комплаенс</a:t>
            </a: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95280" y="980640"/>
            <a:ext cx="8748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истема внутреннего предупреждения нарушений антимонопольного законодательства.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авовых и организационных мер (регламент), предусмотренных внутренним актом хозяйствующего субъекта или органа власти, которые  направлены на соблюдение требований антимонопольного законодательства и предупреждение его нарушения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24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09C2-9009-4655-84DB-75C4D62B980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2501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нципы антимонопольного комплаенса</a:t>
            </a:r>
            <a:r>
              <a:rPr b="0" lang="ru-RU" sz="3200" spc="-1" strike="noStrike">
                <a:solidFill>
                  <a:srgbClr val="738899"/>
                </a:solidFill>
                <a:latin typeface="Arial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83664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заинтересованность руководства ОВ в эффективности функционирования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регулярность оценки рисков нарушения антимонопольного законодательств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обеспечение информационной открытости функционирования в ОВ антимонопольного комплаенса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непрерывность функционирования антимонопольного комплаенса в ОВ;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вершенствование антимонопольного комплаенса.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18960" indent="-31896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805-7089-4BCF-AB47-6F7FCB0018A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еречень определяющих документов: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78920" y="765000"/>
            <a:ext cx="8355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Указ Президента Российской Федерации от 21.12.2017 № 618 «Об основных направлениях государственной политики по развитию конкуренции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Распоряжение Правительства РФ от 18 октября 2018 г. № 2258-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иказ Федеральной антимонопольной службы от 27 ноября 2018 г. № 1646/18 «О системе внутреннего обеспечения соответствия требованиям антимонопольного законодательства в ФАС России (антимонопольном комплаенсе)»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оручение руководителя ФАС России от 19.12.2018 № 01-047-РП/пр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449-C9E7-4DED-9CA9-E633BE4523B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980640"/>
            <a:ext cx="8283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Стандарт развития конкуренции в субъектах Российской Федерации, утвержденный распоряжением Правительства Российской Федерации от 17 апреля 2019 г. No 768-р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Дорожная карта развития конкуренции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38899"/>
                </a:solidFill>
                <a:latin typeface="Arial"/>
              </a:rPr>
              <a:t>Разработка системы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35EA-59FD-4948-A677-3A9B5E8A712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Указ Президента РФ от 21 декабря 2017 г. № 618 «Об основных направлениях государственной политики по развитию конкуренции»</a:t>
            </a:r>
            <a:br>
              <a:rPr sz="2800"/>
            </a:b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лючевой показатель Национального плана развития конкурен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- снижение количества нарушений антимонопольного законодательства со стороны органов государственной власти и органов местного самоуправления к 2020 году не менее чем в 2 раза по сравнению с 2017 годом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Основополагающие </a:t>
            </a:r>
            <a:r>
              <a:rPr b="1" lang="ru-RU" sz="2000" spc="-1" strike="noStrike">
                <a:solidFill>
                  <a:srgbClr val="3f3f3f"/>
                </a:solidFill>
                <a:latin typeface="Arial"/>
              </a:rPr>
              <a:t>принципы государственной политики по развитию конкуренции, </a:t>
            </a: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которыми необходимо руководствоваться при внедрении антимонопольного комплаенса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крытость антимонопольной политик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ответственность органов государственной власти и органов местного самоуправления за реализацию государственной политики по развитию конкуренции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- измеримость результатов государственной политики по развитию конкуренции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B083-98FE-478F-8711-E28F5B0B364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8000" y="43920"/>
            <a:ext cx="885672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c00000"/>
                </a:solidFill>
                <a:uFillTx/>
                <a:latin typeface="Arial"/>
              </a:rPr>
              <a:t>В целях реализации основных направлений государственной политики по развитию конкуренции Указом № 618 поруче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Правительству Российской Федерации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   ФОИВ     Срок до 1 марта 2019 года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Высшим должностным лицам (руководителям высших исполнительных органов гос. власти) субъектов РФ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принять меры, направленные на создание и организацию системы внутреннего обеспечения соответствия требованиям АМЗ деятельности органов исполнительной власти субъектов РФ 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Срок до 1 марта 2019 г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Органам местного самоуправления рекомендовано: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активизировать работу по развитию конкуренции в муниципальных образованиях;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8899"/>
                </a:solidFill>
                <a:latin typeface="Arial"/>
              </a:rPr>
              <a:t>- обеспечить в своей деятельности приоритет целей и задач по развитию конкуренции на товарных рынках.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2494-8C89-44A2-A599-9DF7E865221F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3152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Государство как регулятор рыночных отношений может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ть через систему соответствующих институтов эффективное состояние экономики территории и оправданное состояние конкурентной среды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определенные препятствия в виде административных барьеров для деятельности отдельных субъектов рынка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409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опрос 2 Направления реализации АК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360" y="1700280"/>
            <a:ext cx="799632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1.</a:t>
            </a:r>
            <a:r>
              <a:rPr b="0" lang="ru-RU" sz="2300" spc="-1" strike="noStrike">
                <a:solidFill>
                  <a:srgbClr val="738899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тандарта/Кодекса  добросовестной конкурентной практики (типового и адаптированного  бизнесу)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элементов АК в виде обязательных стандартизированных процедур для органов власти разных уровней и включение их  в «Стандарт развития конкуренции», как важный содержательный элемент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работка системы взаимодействия с МинЭК, ФАС России, АСИ в части включения в систему публичных мероприятий, нормативных актов (дорожных карт),  документов , направленных на развитие конкуренции  ( в т.ч. «Стандарт развития конкуренции») содержательных положений по АК </a:t>
            </a: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2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50920" y="907920"/>
          <a:ext cx="8569080" cy="51850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бизн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утрен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Сокращение ущерба от штрафных санк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нижение операционных и правов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Экономически-правовое обоснование стратегии и тактики развития и функцион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554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ee09c"/>
                          </a:solidFill>
                          <a:latin typeface="Arial"/>
                        </a:rPr>
                        <a:t>Внешни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Формирование позитивного  бизнес-имиджа с положительной историей сотрудни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Снижение рисков коррупционного пове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8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50920" y="836640"/>
          <a:ext cx="8713800" cy="55688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нижение антиконкурентных поведений: актов, действий, бездейств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 условий для формирования благоприятного предпринимательского клим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Формирование позитивного имид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Мотивация к снижению коррупционных рис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895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отрудничество с антимонопольным  орган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ыгоды и эффекты  от внедрения АК</a:t>
            </a:r>
            <a:endParaRPr b="0" lang="en-US" sz="3200" spc="-1" strike="noStrike">
              <a:solidFill>
                <a:srgbClr val="738899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08000" y="620640"/>
          <a:ext cx="8856720" cy="603432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493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ля регуля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98892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Сокращение количества дел, связанных с нарушением АМ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1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Увеличение практик предостережения и предупрежд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3984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Формирование  системы обратной связи с представителями бизнеса и органов вл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247760">
                <a:tc>
                  <a:txBody>
                    <a:bodyPr lIns="62640" rIns="6264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Концентрация усилий на защите конкуренции через механизмы адвокат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  <a:tr h="10321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Участие в формировании политики по созданию благоприятных условий для развития бизне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95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39640" y="1267920"/>
            <a:ext cx="79948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Актуальные проблемы внедрения антимонопольного комплаенса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BZ" sz="3000" spc="-1" strike="noStrike">
                <a:solidFill>
                  <a:srgbClr val="c00000"/>
                </a:solidFill>
                <a:latin typeface="Arial"/>
              </a:rPr>
              <a:t>https://fas.gov.ru/extended_search?utf8=%E2%9C%93&amp;filter_materials%</a:t>
            </a: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438-F28C-4BDF-960D-49698C20AA4E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920" y="8496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7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f3f3f"/>
                </a:solidFill>
                <a:latin typeface="Arial"/>
              </a:rPr>
              <a:t>СПАСИБО ЗА ВНИМАНИЕ !</a:t>
            </a:r>
            <a:endParaRPr b="0" lang="en-US" sz="36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0" y="6467400"/>
            <a:ext cx="939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1E24-659D-4C0C-86CB-FF9D1B18F757}" type="slidenum">
              <a:rPr b="0" lang="en-US" sz="14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86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Конституция РФ содержит ряд норм, обеспечивающих реализацию полномочий антимонопольных органов в сфере выполнения контрольных функций, связанных с развитием рыночной конкуренции и недопущением антиконкурентных действий со стороны органов власти различного уровня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362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8 гарантирует единство экономического пространства, свободу перемещения товаров, услуг и финансовых средств, поддержку конкуренции, свободу экономической деятельности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34  не допускается экономическая деятельность, направленная на монополизацию и недобросовестную конкуренцию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Arial"/>
              </a:rPr>
              <a:t>Статья 74 не допускается установление на территории Российской Федерации таможенных границ, пошлин, сборов и каких-либо иных препятствий для свободного перемещения товаров, услуг и финансовых средств</a:t>
            </a: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Arial"/>
              </a:rPr>
              <a:t>Органы государственной власти и местного самоуправления не всегда находят адекватные рыночной экономике пути взаимоотношений с хозяйствующими субъектами. Это </a:t>
            </a:r>
            <a:r>
              <a:rPr b="1" lang="ru-RU" sz="2200" spc="-1" strike="noStrike">
                <a:solidFill>
                  <a:srgbClr val="c00000"/>
                </a:solidFill>
                <a:latin typeface="Arial"/>
              </a:rPr>
              <a:t>компенсируется :</a:t>
            </a:r>
            <a:endParaRPr b="0" lang="en-US" sz="22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066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инятием подзаконных актов по вопросам лицензирования, квотирования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усложняется порядок регистрации предприятий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создаются препятствия в распределении земельных участков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предоставляются необоснованные преференции и др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unga"/>
              </a:rPr>
              <a:t>Реализуя конституционные гарантии, закрепленные в статье 132 Конституции РФ, органы местного самоуправления имеют право «самостоятельно управлять муниципальной собственностью, формировать, утверждать и исполнять местный бюджет, устанавливать местные налоги и сборы, осуществлять охрану общественного порядка, а также решать иные вопросы местного значения»</a:t>
            </a:r>
            <a:br>
              <a:rPr sz="2400"/>
            </a:b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В гл. 3 статьях 14-16 №131-ФЗ перечислен широкий спектр вопросов местного значения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поселений 34 вида деятельности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муниципальных районов – 28 видов,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f3f3f"/>
                </a:solidFill>
                <a:latin typeface="Arial"/>
              </a:rPr>
              <a:t>для городских округов – 26 видов. </a:t>
            </a:r>
            <a:endParaRPr b="0" lang="en-US" sz="28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л. 3 статьях 14-16 №131-ФЗ выделяются вопросы социального, технологического, экологического и экономического значения. Наиболее значимыми вопросами экономического значения являются</a:t>
            </a:r>
            <a:r>
              <a:rPr b="1" lang="ru-RU" sz="2000" spc="-1" strike="noStrike">
                <a:solidFill>
                  <a:srgbClr val="738899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налоговое регулирование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ладение, пользование и распоряжение имуществом, находящимся в муниципальной собственности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в границах муниципального района электро- и газоснабжения поселен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предоставления транспортных услуг населению и организация транспортного обслуживания;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создание условий для обеспечения жителей услугами связи, общественного питания, торговли и бытового обслуживания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выдача разрешений на установку рекламных конструкций;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Arial"/>
              </a:rPr>
              <a:t>организация ритуальных услуг и содержание мест захоронения и др. 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8000" y="228600"/>
            <a:ext cx="8928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каз Президента РФ №618 «Об основных направлениях государственной политики по развитию конкуренции» от 21.12. 2017 г.</a:t>
            </a:r>
            <a:endParaRPr b="0" lang="en-US" sz="2400" spc="-1" strike="noStrike">
              <a:solidFill>
                <a:srgbClr val="7388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7640" y="1526760"/>
            <a:ext cx="87850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f3f3f"/>
                </a:solidFill>
                <a:latin typeface="Arial"/>
              </a:rPr>
              <a:t>1. </a:t>
            </a: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Считать активное содействие развитию конкуренции в РФ приоритетным направлением деятельности Президента Российской Федерации, Федерального Собрания, Правительства , федеральных органов исполнительной власти, законодательных и исполнительных органов государственной власти субъектов РФ, а также органов местного самоуправления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2. Определить, что целями совершенствования государственной политики по развитию конкуренции являются: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а) повышение удовлетворенности потребителей за счет расширения ассортимента товаров, услуг, повышения их качества и снижения цен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б) повышение экономической эффективности и конкурентоспособности хозяйствующих субъектов…;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f3f3f"/>
                </a:solidFill>
                <a:latin typeface="Arial"/>
                <a:ea typeface="Arial"/>
              </a:rPr>
              <a:t>в) стабильный рост и развитие многоукладной экономики…, снижение социальной напряженности в обществе, обеспечение национальной безопасности.</a:t>
            </a: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388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 Князева</cp:lastModifiedBy>
  <dcterms:modified xsi:type="dcterms:W3CDTF">2019-06-18T22:07:40Z</dcterms:modified>
  <cp:revision>319</cp:revision>
  <dc:subject/>
  <dc:title>Презентация PowerPoint</dc:title>
</cp:coreProperties>
</file>