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3.wmf" ContentType="image/x-wmf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987E-23CF-4A11-8A19-53293B7434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2DA-2570-4DAB-903B-572E27D920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00E-9A3B-4231-8785-5294C5AC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A2B-4CD7-4D86-BEBE-868533BD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647-2F27-436E-887A-6EC134F6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135-D33C-473F-B7DE-E770EB15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EFCD-724A-455D-8812-2DC444E9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2B50-1002-4D2F-8F04-3ED3E37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CF7-CD4E-482B-97D9-A2100303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DB7-01FA-45E5-83B5-645C116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135-2C2B-41FF-AA61-CDA6D84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ECFD-23A7-4498-A227-412E6F5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6CD7-0BE9-4E73-A577-A4D5888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B2-CE1C-42B0-A5D0-89C24C6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732D-FD90-41E8-B251-D3851E9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403-2718-4C20-B793-945838D7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37C7-489D-4F9A-8345-1D1D79F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1783-E0F9-4B84-BFAA-D49D306B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938-18FE-4E57-B2FA-FC8B1F15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63596-8C36-44B3-AEAE-57D7128C20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1A3DB-9C70-46D7-AF8B-AA69C11F5C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A5C25-7DB0-47EA-99E0-2739D424F6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99985-E451-4DA5-8146-EE5A023C89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2CA59-F7B2-4E0D-8E04-48A9675A3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924-CCF4-4EC2-9743-939BE3A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2FBB5-F620-4956-8446-E6D888F062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605D0-35EC-4BF9-B1C8-21E10D6FC0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C1A94-64D9-4FBE-8EF4-C07DBCC5DE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21812-A873-44BC-95B7-0FA0A4FCB5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3C895-AF1E-4D59-B337-CA6D5F948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6EE25-87C6-4324-87BD-69F1E49637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ABF54-B72A-4BFC-A43B-C65383E0B7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3AF1F-609C-475E-94CF-AA1C3BCA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98E89-9867-4A17-94BA-CDD873E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858DA-F7DA-44BA-B3D1-2C1D5DB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62F-50F1-4844-A537-6CBF62AC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3BA17-F18C-4027-95BA-E36AF5B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9E7CF-15B8-4FEC-9FFA-E7E2DCE3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EB9BA-63A5-467D-909C-1CF4F75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68362-1D5D-4945-827C-8EDA72C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969CE-62DF-4AC3-ACBA-63C3E6BB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27DE5-7C90-4A5F-B4F7-DD83482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E8CAC-8D8C-4279-A103-B9E3E6F8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F0F1B-394F-4C22-B5FC-081A0BDB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DE1ED-7C97-4123-B4B7-95427DD9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3E2-DF82-4C32-868B-D47DC856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979-76B3-46D5-BDA0-E94E1E6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41EC5-6EAC-4C60-ABD8-B85B2B85EB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D5261-96BD-49CB-B4F4-43262561B5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0393A-9260-42A5-A061-EE7E62EEC2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23BEE-D8C3-4DB2-9E3C-E3E411DA5F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EE5A4-3DC5-444F-A81A-DCF4505BA8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16C29-D6D6-4C4A-BB48-E2BB45E741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B6F15-EA7F-4563-A8A8-53EC72C012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1F690-B0A8-4703-957D-2483357331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A1B7F-71F7-47AD-B403-654970278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B24-17AF-4273-9CAC-2BA4456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FD5E2-299F-442B-8577-017D3B710B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FC0FF-8AED-45B4-B798-FFFA0FB9BE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53875-DE45-4AEE-B8A6-2331E98D70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3523-E1E4-4294-8457-30900A6B33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2C6B-9E6A-4920-B1B5-BBD5DB6D22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57359-6CFF-4F7E-A793-55FC22CDAE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28E9-35E4-4058-B400-F0DAFDFCCC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3995-BFEA-4277-8CB7-3034E29497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4A43-92FA-4D01-BA86-DBDD5B4381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9A6B-6823-412A-AB74-A40DC4C78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28D-524E-4F95-8FE9-1639D1B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21ED-6A9C-46FB-A77B-CC6E08D1BD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7D7C-8767-4055-84E2-A2A333C68C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0B0B-1C1D-407B-8D82-B0091F1C2C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8E48-5277-40B4-869A-D8E3969846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34DD-5B48-4F9E-9678-23843CBB87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5C8-8A2C-4C96-AAFA-1A72ED3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720-F65C-4C6E-A922-508E21DC3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E135-A3F1-4ACF-ABB0-38B3CD2A39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6409-8904-4479-82BE-7B8B293D31D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slayd_tit_down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layd_tit_down"/>
          <p:cNvPicPr/>
          <p:nvPr/>
        </p:nvPicPr>
        <p:blipFill>
          <a:blip r:embed="rId3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ayd_tit_down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F78-8F4A-4FA3-9F54-0F6CFB835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1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2F8-CE35-471E-B885-16AFE8EBF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2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9B2-15AD-409A-813E-7B7D96D9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slayd_tit"/>
          <p:cNvPicPr/>
          <p:nvPr/>
        </p:nvPicPr>
        <p:blipFill>
          <a:blip r:embed="rId4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layd_tit_down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slayd_tit"/>
          <p:cNvPicPr/>
          <p:nvPr/>
        </p:nvPicPr>
        <p:blipFill>
          <a:blip r:embed="rId6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slayd_tit_down"/>
          <p:cNvPicPr/>
          <p:nvPr/>
        </p:nvPicPr>
        <p:blipFill>
          <a:blip r:embed="rId7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95280" y="620280"/>
            <a:ext cx="7956720" cy="528948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2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626-422A-4CBD-B98A-EF446FD95692}" type="slidenum">
              <a:rPr b="0" lang="ru-RU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24000" y="260280"/>
            <a:ext cx="8135640" cy="74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О создании и организации системы внутреннего обеспечения соответствия требованиям антимонополь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( Антимонопольный комплаен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Князева Ири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Доктор экономических наук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Центр исследования конкурентной политик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СИУ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Новосибирск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Национальный  план развития конкуренции в Российской Федерации на 2018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2020 годы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50920" y="981000"/>
            <a:ext cx="8555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  <a:ea typeface="Arial"/>
              </a:rPr>
              <a:t>1. 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ограничение создания унитарных предприятий на конкурентных рынка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2. запрет прямого или косвенного приобретения государством и муниципальными образованиями акций и долей хозяйственных обществ, осуществляющих деятельность на товарных рынках в условиях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3. правовое регулирование системы внутреннего обеспечения соответствия требованиям антимонопольного законодательства  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4. в каждом субъекте Федерации разработка дорожной карты по развитию конкуренци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5. обеспечение во всех отраслях экономики РФ присутствия не менее трех хозяйствующих субъектов, не менее чем один из которых относится к частному бизнесу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6. разработка конкурентного законодательства на цифровых рынках</a:t>
            </a:r>
            <a:r>
              <a:rPr b="0" lang="ru-RU" sz="2600" spc="-1" strike="noStrike">
                <a:solidFill>
                  <a:srgbClr val="3f3f3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c00000"/>
                </a:solidFill>
                <a:latin typeface="Arial"/>
              </a:rPr>
              <a:t>https://fas.gov.ru/pages/vazhnaya-informacziya/standart-razvitiya-konkurenczii/standart-test-one.html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961-549B-400C-A8DF-4AEADB08BA9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4080" y="1052640"/>
            <a:ext cx="8574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ы, на которые распространяется сфера применения  Федерального закона РФ № 135-ФЗ «О Защите конкуренции»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1392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Федеральные органы исполнительной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государственной власти субъектов Российской Федераци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местного самоуправления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равненные к ним органы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Центральный банк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енсионные фон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Перечень организационно-распорядительных  и информационно-справочных документов, в отношении которых может осуществляться  антимонопольный надзор и контроль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иказ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ото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Распоря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Догов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о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И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нтиконкурентные акты и действия органов власти  в соответствии с 135 –ФЗ «О защите конкуренции»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ГЛАВА 3. СТ.1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ЧИВАЮЩИЕ КОНКУРЕНЦИЮ АКТЫ И ДЕЙСТВИЯ (БЕЗДЕЙСТВИЯ)  ФОИВ, ОРГАНОВ ГОСУДАРСТВЕННОЙ ВЛАСТИ СУБЪЕКТОВ РФ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МЕСТНОГО САМОУПРАВЛЕНИЯ, ИНЫХ НАДЕЛЕННЫХ ФУНКЦИЯМИ ИЛИ ПРАВАМИ УКАЗАННЫХ ОРГАНОВ ВЛАСТИ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В ИЛИ ОРГАНИЗАЦИЙ, УЧАСТВУЮЩИХ В ПРЕДОСТАВЛЕНИИ ГОСУДАРСТВЕННЫХ И МУНИЦИПАЛЬНЫХ УСЛУГ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СТ. 16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ВАЮЩИЕ КОНКУРЕНЦИЮ СОГЛАШЕНИЯ  ИЛИ СОГЛАСОВАННЫЕ ДЕЙСТВИЯ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. 4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ТИМОНОПОЛЬНЫЕ ТРЕБОВАНИЯ К ТОРГАМ ГОСУДАРСТВЕННЫМ И МУНИЦИПАЛЬНЫМ ИМУЩЕСТВОМ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АВА 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Ь ЗА ГОСУДАРСТВЕННЫМИ И МУНИЦИПАЛЬНЫМИ ПРЕФЕРЕНЦИЯМ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184-7008-456A-95D1-56A4864CBD0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AC40-9EFA-4165-B653-5E59D6D98E4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еречень запрещенных актов и действия органов власти, направленных на ограничение конкуренции ( ст.15 гл.3)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69800" y="692280"/>
            <a:ext cx="856944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ограничения в отношении создания новых ХС в какой-либо сфере деятельности, а также установление запретов  или введение  ограничении в отношении осуществления отдельных видов деятельности или производства определенных видов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900000" y="5013360"/>
            <a:ext cx="79200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едоставление государственной или муниципальной  преференции в нарушение требований  гл. 5 ; создание дискриминационных услов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900000" y="4076640"/>
            <a:ext cx="792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авать ХС указания о первоочередной поставке товаров (выполнение работ, оказание услуг) определенному кругу покупателей (заказчиков) или о приоритетном заключении догово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900000" y="3213000"/>
            <a:ext cx="770904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и взимать не установленные законодательством РФ платежи при предоставлении государственных и муниципальных услуг, а также услуг , необходимых и сопутству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900000" y="5734080"/>
            <a:ext cx="778032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доставлять отдельному ХС или нескольким ХС льготы, ставящие их в преимущественное положение по отношению к другим ХС, работающим на рынок того же тов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900000" y="1700280"/>
            <a:ext cx="7704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запреты или введение  ограничений  в отношении перемещения товаров из одного региона РФ  в другой или иным образом ограничить права ХС на продажу (приобретение, покупку, обмен) тов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900000" y="2716200"/>
            <a:ext cx="7709040" cy="2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пятствовать осуществлению деятельности ХС в какой-либо сфе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250920" y="40464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250920" y="602136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304920" y="530064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304920" y="443700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250920" y="350028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250920" y="285264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6"/>
          <p:cNvSpPr/>
          <p:nvPr/>
        </p:nvSpPr>
        <p:spPr>
          <a:xfrm>
            <a:off x="304920" y="20606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692280" y="617364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133200" y="112860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1EA3-30CC-43EA-9976-06D58FA7E1E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руктура возбужденных дел в отношении антиконкурентных актов и действий органов власти в 2018г. по системе ФАС России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496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648320" y="981000"/>
          <a:ext cx="3886200" cy="5400720"/>
        </p:xfrm>
        <a:graphic>
          <a:graphicData uri="http://schemas.openxmlformats.org/drawingml/2006/table">
            <a:tbl>
              <a:tblPr/>
              <a:tblGrid>
                <a:gridCol w="284040"/>
                <a:gridCol w="360216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основанное препятствование осуществлению деятельности х/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деление х/с властными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ограничений в выборе продав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доставление  государственной или муниципальной пре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вмещение функций органов власти с функциями х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запретов на перемещение, продажу това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казания  о  приоритетной поставке товаров, заключении дого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граничение на создание новых х/с, установление запретов на отдельные виды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инамика нарушений антимонопольного законодательства  органами власти всех уровней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4594-6377-4271-BC7A-DD57220F0BB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46120" y="1628640"/>
            <a:ext cx="7110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збуждено дел о нарушении антимонопольного законодательства (2014-2018)*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0" y="6467400"/>
            <a:ext cx="6875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B97E-B750-46B8-9D76-DC340C7C272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* Материалы  Государственного доклада о состоянии конкуренции 2018 г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55440" y="1197000"/>
            <a:ext cx="883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692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института предупреждения и предостережения, распространение его на действия органов государственной власти и местного самоуправления с 2016 г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15, 39.1,25.7"О защите конкуре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)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механизм оперативного устранения антимонопольных правонарушений со стороны должностных лиц органов власти (ст.25.7)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другой стороны - механизм ужесточе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вторном нарушении штраф от 30 до 50 тыс. руб. или дисквалификация до 3 лет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4E9-71B8-4574-85BB-41CF0F878FD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C278-EDEC-439F-B3E2-85C2DF8BE4E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еятельность государства должна быть направлена на совершенствование рынка, а не на отмену или обход его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Дж.Гэлбрэйт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58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39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 Предупреждение о прекращении действий (бездействия), которые содержат признаки нарушения АМЗ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пресечения нарушений в сфере предпринимательской деятельности, антимонопольный орган выдает ФОИВ, органу государственной власти субъекта РФ, органу МСУ, иным осуществляющим функции указанных органов органу или организации, организации, участвующей в предоставлении государственных или муниципальных услуг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нной форме о прекращении действий (бездействия), об отмене или изменении актов, которые содержат признаки нарушения АМЗ, либо об устранении причин и условий, способствовавших возникновению такого нарушения, и о принятии мер по устранению последствий такого нарушения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ается 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цам, в случае выявления признаков нарушения 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ст.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Arial"/>
                <a:hlinkClick r:id="rId1" action="ppaction://hlinksldjump"/>
              </a:rPr>
              <a:t>15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479-3740-4B4E-8E18-BDDF8BA990F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о нарушений антимонопольного законодательства (2014-2018 гг)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C73-BC30-4318-8FFB-38E39D78C08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04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отношение возбужденных дел и выданных предупреждени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996-5833-406D-AFB0-27A5C9BA473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6320" y="1125360"/>
            <a:ext cx="8816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ичество выданных и исполненных предупреждений , всего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8EDB-D214-43C9-A54D-04C1F683944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6880" y="2133720"/>
            <a:ext cx="8566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ля исполненных предупреждений по различным видам нарушений АМЗ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E368-7397-4B84-B95E-A568A5F13C4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30040" y="1484280"/>
            <a:ext cx="83026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712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правления предостережения , в т.ч. должностным лицам ФОИВ, органа государственной власти субъекта РФ, органа МСУ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018-AE36-461B-9B7E-79AA7CC6D7A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20560" y="1700280"/>
            <a:ext cx="7796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ечение ограничивающих конкуренцию действий (бездействия) органов государственной власти и органов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EE3-E575-4580-9A92-D7F11C62107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82600" y="2060640"/>
            <a:ext cx="865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89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глашения с участием органов государственной власти и 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318-7AB3-4B56-B76C-2CC856784E0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буждено дел о преференциях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381-77EE-4991-B72A-28F72921EB1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03040" y="1413000"/>
            <a:ext cx="8256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10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езультаты рассмотрения заявлений о предоставлении преференций в  2018  г</a:t>
            </a: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F4A0-28B6-460B-9F18-103F9EEDD3F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09600" y="1125360"/>
            <a:ext cx="82231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A8E2-0E4E-48EA-BEF3-C44EF4E4EF4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7487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Перечень законов, контроль  исполнение которых осуществляет ФАС России</a:t>
            </a:r>
            <a:r>
              <a:rPr b="0" lang="ru-RU" sz="4200" spc="-1" strike="noStrike">
                <a:solidFill>
                  <a:srgbClr val="7388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24"/>
          <p:cNvGraphicFramePr/>
          <p:nvPr/>
        </p:nvGraphicFramePr>
        <p:xfrm>
          <a:off x="244440" y="701640"/>
          <a:ext cx="80121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701640"/>
                    <a:ext cx="80121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атья 39. Основания для возбуждения дела о нарушении антимонопольного законодательства (АМЗ)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е из государственных органов, органов местного самоуправления материалов, указывающих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явление юридического или физического лица, указывающее на признаки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наружение антимонопольным органом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общение средства массовой информации, указывающее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зультат проверки, при проведении которой выявлены признаки нарушения АМЗ федеральными органами исполнительной власти, органами государственной власти субъектов РФ, органами местного самоуправления, иными осуществляющими функции указанных органов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D94-79E5-4C20-BF5B-E3FC6D1CCF9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уктура и количество выданных предписаний органам власти разных уровне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840720" cy="2622600"/>
          </a:xfrm>
          <a:prstGeom prst="rect">
            <a:avLst/>
          </a:prstGeom>
          <a:ln w="0">
            <a:noFill/>
          </a:ln>
        </p:spPr>
      </p:pic>
      <p:sp>
        <p:nvSpPr>
          <p:cNvPr id="44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F0D-B94A-4255-AA66-6CAD2485C09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11280" y="4076640"/>
          <a:ext cx="7777080" cy="1123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ами в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д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3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2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5955-0577-475A-8391-F7B4ADF8776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осударственные или муниципальные преференции могут быть предоставлены на основании правовых актов органов власти исключительно в целях:</a:t>
            </a:r>
            <a:br>
              <a:rPr sz="1800"/>
            </a:br>
            <a:endParaRPr b="0" lang="en-US" sz="1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) обеспечения жизнедеятельности населения в районах Крайнего Севера и приравненных к ним местностях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2) развития образования и наук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3) проведения научных исследовани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4) защиты окружающей среды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5) сохранения, использования, популяризации и государственной охраны объектов культурного наследия (памятников истории и культуры) народов Российской Федера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6) развития культуры, искусства и сохранения культурных ценносте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7) развития физической культуры и спорт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8) обеспечения обороноспособности страны и безопасности государ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9) производства сельскохозяйственной продук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0) социальной защиты населения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1) охраны труд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2) охраны здоровья граждан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3) поддержки субъектов малого и среднего предприниматель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4) определяемых другими ФЗ, нормативными правовыми актами Президента РФ и нормативными правовыми актами Правительства РФ.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AA3-384C-4F20-A3F2-30C19697459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691920"/>
            <a:ext cx="7925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овторяющиеся нарушения антимонопольного законодательства со стороны органов власти и местного самоуправления являются опасной тенденцией, которая представляет постоянную угрозу конкуренции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еред антимонопольным ведомством стоит важная задача - усиление антимонопольного контроля за деятельностью органов государственной власти. «Повышена административная ответственность для государственных и муниципальных служащих за нарушение антимонопольного законодательства: введена дисквалификация в качестве меры ответственности», - отмечал в своем докладе руководитель ФАС России Игорь Артемьев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34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Антимонопольный комплаенс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5280" y="980640"/>
            <a:ext cx="8748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истема внутреннего предупреждения нарушений антимонопольного законодательства.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авовых и организационных мер (регламент), предусмотренных внутренним актом хозяйствующего субъекта или органа власти, которые  направлены на соблюдение требований антимонопольного законодательства и предупреждение его наруш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B4F6-1256-423B-A0DF-FF370B0E8B4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нципы антимонопольного комплаенса</a:t>
            </a:r>
            <a:r>
              <a:rPr b="0" lang="ru-RU" sz="3200" spc="-1" strike="noStrike">
                <a:solidFill>
                  <a:srgbClr val="738899"/>
                </a:solidFill>
                <a:latin typeface="Arial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83664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заинтересованность руководства ОВ в эффективности функционирования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регулярность оценки рисков нарушения антимонопольного законодательств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беспечение информационной открытости функционирования в ОВ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непрерывность функционирования антимонопольного комплаенса в ОВ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вершенствование антимонопольного комплаенса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689-BB51-438A-89D5-E9128B699CE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еречень определяющих документов: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8920" y="765000"/>
            <a:ext cx="8355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Распоряжение Правительства РФ от 18 октября 2018 г. № 2258-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иказ Федеральной антимонопольной службы от 27 ноября 2018 г. № 1646/18 «О системе внутреннего обеспечения соответствия требованиям антимонопольного законодательства в ФАС России (антимонопольном комплаенсе)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оручение руководителя ФАС России от 19.12.2018 № 01-047-РП/п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416-A510-471A-ADC7-D73B5C26734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980640"/>
            <a:ext cx="8283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Стандарт развития конкуренции в субъектах Российской Федерации, утвержденный распоряжением Правительства Российской Федерации от 17 апреля 2019 г. No 768-р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Дорожная карта развития конкуренции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Разработка системы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8B78-0B75-4B0E-810D-B701304D004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Указ Президента РФ от 21 декабря 2017 г. № 618 «Об основных направлениях государственной политики по развитию конкуренции»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лючевой показатель Национального плана развития конкурен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- снижение количества нарушений антимонопольного законодательства со стороны органов государственной власти и органов местного самоуправления к 2020 году не менее чем в 2 раза по сравнению с 2017 годом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Основополагающие </a:t>
            </a: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принципы государственной политики по развитию конкуренции,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оторыми необходимо руководствоваться при внедрении антимонопольного комплаенса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крытость антимонопольной политик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ветственность органов государственной власти и органов местного самоуправления за реализацию государственной политики по развитию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измеримость результатов государственной политики по развитию конкуренции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33DC-1912-4E3E-95A7-95A00A37D1F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В целях реализации основных направлений государственной политики по развитию конкуренции Указом № 618 поруче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   ФОИВ     Срок до 1 марта 2019 года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Высшим должностным лицам (руководителям высших исполнительных органов гос. власти) субъектов РФ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органов исполнительной власти субъектов РФ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Срок до 1 марта 2019 г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Органам местного самоуправления рекомендова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активизировать работу по развитию конкуренции в муниципальных образования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обеспечить в своей деятельности приоритет целей и задач по развитию конкуренции на товарных рынках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FF70-5180-4760-B6B3-EA6AA44CD6A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 как регулятор рыночных отношений может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ть через систему соответствующих институтов эффективное состояние экономики территории и оправданное состояние конкурентной сре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определенные препятствия в виде административных барьеров для деятельности отдельных субъектов рынка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409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опрос 2 Направления реализации АК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1700280"/>
            <a:ext cx="799632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1.</a:t>
            </a: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тандарта/Кодекса  добросовестной конкурентной практики (типового и адаптированного  бизнесу)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элементов АК в виде обязательных стандартизированных процедур для органов власти разных уровней и включение их  в «Стандарт развития конкуренции», как важный содержательный элемент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истемы взаимодействия с МинЭК, ФАС России, АСИ в части включения в систему публичных мероприятий, нормативных актов (дорожных карт),  документов , направленных на развитие конкуренции  ( в т.ч. «Стандарт развития конкуренции») содержательных положений по АК 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907920"/>
          <a:ext cx="8569080" cy="518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бизн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утрен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окращение ущерба от штрафных санк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нижение операционных и правов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Экономически-правовое обоснование стратегии и тактики развития и функцион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554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еш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Формирование позитивного  бизнес-имиджа с положительной историей сотрудни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Снижение рисков коррупционного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50920" y="836640"/>
          <a:ext cx="8713800" cy="55688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нижение антиконкурентных поведений: актов, действий, бездейст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 условий для формирования благоприятного предпринимательского клим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Формирование позитивного имид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Мотивация к снижению коррупционн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отрудничество с антимонопольным  орган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08000" y="620640"/>
          <a:ext cx="8856720" cy="603432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493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регуля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88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окращение количества дел, связанных с нарушением АМ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1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Увеличение практик предостережения и предупреж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398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Формирование  системы обратной связи с представителями бизнеса и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47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Концентрация усилий на защите конкуренции через механизмы адвокат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21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Участие в формировании политики по созданию благоприятных условий для развития бизн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1267920"/>
            <a:ext cx="7994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Актуальные проблемы внедрения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000" spc="-1" strike="noStrike">
                <a:solidFill>
                  <a:srgbClr val="c00000"/>
                </a:solidFill>
                <a:latin typeface="Arial"/>
              </a:rPr>
              <a:t>https://fas.gov.ru/extended_search?utf8=%E2%9C%93&amp;filter_materials%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DDC-7FD0-4339-A783-5399C087435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7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f3f3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5BF-8F71-4D68-9085-A8C1E8F12955}" type="slidenum">
              <a:rPr b="0" lang="en-US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Конституция РФ содержит ряд норм, обеспечивающих реализацию полномочий антимонопольных органов в сфере выполнения контрольных функций, связанных с развитием рыночной конкуренции и недопущением антиконкурентных действий со стороны органов власти различного уровня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362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8 гарантирует единство экономического пространства, свободу перемещения товаров, услуг и финансовых средств, поддержку конкуренции, свободу экономической деятельност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34  не допускается экономическая деятельность, направленная на монополизацию и недобросовестную конкуренцию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74 не допускается установление на территории Российской Федерации таможенных границ, пошлин, сборов и каких-либо иных препятствий для свободного перемещения товаров, услуг и финансовых средств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Органы государственной власти и местного самоуправления не всегда находят адекватные рыночной экономике пути взаимоотношений с хозяйствующими субъектами. Эт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компенсируется :</a:t>
            </a:r>
            <a:endParaRPr b="0" lang="en-US" sz="2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нятием подзаконных актов по вопросам лицензирования, квотирова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усложняется порядок регистрации предприятий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здаются препятствия в распределении земельных участков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едоставляются необоснованные преференции и др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Реализуя конституционные гарантии, закрепленные в статье 132 Конституции РФ, органы местного самоуправления имеют право «самостоятельно управлять муниципальной собственностью, формировать, утверждать и исполнять местный бюджет, устанавливать местные налоги и сборы, осуществлять охрану общественного порядка, а также решать иные вопросы местного значения»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В гл. 3 статьях 14-16 №131-ФЗ перечислен широкий спектр вопросов местного значения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поселений 34 вида деятельности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муниципальных районов – 28 видов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городских округов – 26 видов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л. 3 статьях 14-16 №131-ФЗ выделяются вопросы социального, технологического, экологического и экономического значения. Наиболее значимыми вопросами экономического значения являются</a:t>
            </a: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налоговое регулирование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ладение, пользование и распоряжение имуществом, находящимся в муниципальной собственности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в границах муниципального района электро- и газоснабжения поселен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едоставления транспортных услуг населению и организация транспортного обслуживания;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создание условий для обеспечения жителей услугами связи, общественного питания, торговли и бытового обслуживания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ыдача разрешений на установку рекламных конструкц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ритуальных услуг и содержание мест захоронения и др.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928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каз Президента РФ №618 «Об основных направлениях государственной политики по развитию конкуренции» от 21.12. 2017 г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640" y="1526760"/>
            <a:ext cx="87850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f3f3f"/>
                </a:solidFill>
                <a:latin typeface="Arial"/>
              </a:rPr>
              <a:t>1. </a:t>
            </a: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Считать активное содействие развитию конкуренции в РФ приоритетным направлением деятельности Президента Российской Федерации, Федерального Собрания, Правительства , федеральных органов исполнительной власти, законодательных и исполнительных органов государственной власти субъектов РФ, а также органов местного самоуправления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2. Определить, что целями совершенствования государственной политики по развитию конкуренции являются: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а) повышение удовлетворенности потребителей за счет расширения ассортимента товаров, услуг, повышения их качества и снижения цен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б) повышение экономической эффективности и конкурентоспособности хозяйствующих субъектов…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в) стабильный рост и развитие многоукладной экономики…, снижение социальной напряженности в обществе, обеспечение национальной безопасности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 Князева</cp:lastModifiedBy>
  <dcterms:modified xsi:type="dcterms:W3CDTF">2019-06-18T22:07:40Z</dcterms:modified>
  <cp:revision>319</cp:revision>
  <dc:subject/>
  <dc:title>Презентация PowerPoint</dc:title>
</cp:coreProperties>
</file>