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3.wmf" ContentType="image/x-wmf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1AB-16EC-47BC-9155-21A5D8340D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A7F-7397-4840-AD77-46EC9B8D86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7E9-A501-43B7-854B-DDE85CF3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825-BB7B-46F4-97A7-3B878F5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CAD-F849-45FE-ABFD-0F544C5E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22C-8937-46DD-97BC-B6403409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2228-BF80-4EF3-9F8C-DD4AEF39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F3F3-00C9-49D0-B65F-52E9233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45E-49D2-4616-A5A3-99CD080B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6F86-90C7-4B78-A273-01B5DFC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F10F-4AA4-4D59-ADB1-307F590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6A5-C45B-490E-8B49-BC68EE81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278F-C724-43EC-B532-2696B7C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443-3DFB-41C9-BAE4-BAB267A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8707-0DF6-4D97-B06D-CE7EA267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47E3-8DC7-40C3-BE05-C787852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B52-2163-4E6A-9ACC-B4D16BE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236-8E76-4ED7-893E-18BE0FF8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687-39A2-421A-A7CF-EEE29DF2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D6528-7869-4EF8-A9E0-82DEBE1DA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A6874-3D6F-4D1C-9F4D-478A8DD018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8CA01-7937-4AA4-96C2-EC68DA6C66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E91B6-BBFF-4064-902E-F3EED0BEFF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D7DA8-3FD9-41A8-9CA3-C7B4D99C2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A35-2199-486D-9216-CA8B33C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014B2-9762-43AB-9C16-F59C8A15F0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FA77A-4205-4764-A478-C99DF7B21E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D49F4-0546-42F5-84FA-AEE18D6DAF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9D3AE-B6CC-4F14-A59A-9EB46B2E18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02B51-2B24-4E56-BDD4-F9D6C8325A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77D5C-9A01-4918-9D65-18CB852FE2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0B3C5-85F4-46AA-AD9E-9EE1509C6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429CA-30F7-45CC-BCB7-F4F4C781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10AC4-5F30-4866-9D8F-E9E62BDB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2F38C-840A-4DF7-887A-742D79CF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79D-2E38-4838-AA24-33AE823A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820B8-6793-4D5F-BF07-0C8692F8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01D7E-F34C-4C02-9ABE-44CC22E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4147F-E620-44E9-ACED-DE1B09BF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FECE0-13DE-4706-9447-DDEF056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80ABA-4AAD-4635-B498-D99814F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3154D-A358-4058-9D77-6C6ADFC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A6A91-88CF-4934-BA2D-8A4BD14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4A8FF-DA1A-481D-8351-9661CE22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AE4E8-366E-429D-AEFC-81F3B2A7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F45-6634-4FD3-B8E8-12DC9F2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B35-5012-420A-A0D2-263F8B7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B0AD9-A804-4500-99E9-4EBF7579E8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BFAEA-9496-4AFD-87C2-090171F6D8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4417A-CCCA-4B43-8186-2B294906BD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EC1D9-BE2F-444B-8ADB-47C909AA73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30B37-A166-4F4E-B4EA-A182346C53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075BC-6ADB-482E-87A6-D017C4C575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7F097-251F-41B5-91C6-4449F07859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8039A-B835-4DBE-8BA8-C87A3559C8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7AD75-7AC0-4F25-83C0-D945BF5A2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A7C-CFAD-4D98-A988-9DACCEC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7F110-D5DC-41DD-A730-1523D4606F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06EC8-2431-4D83-9661-22C820ADA4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F4EFB-E837-4F00-8C61-6563DBC37B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5EEB-E1A1-474D-A423-37C0629C25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FA1E-C5F7-4EA9-8354-7A3124DD10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23A8-B77B-46C8-9D45-A84581D7AC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35F2-0302-4964-8BB6-2D7AE4E3DF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0775-75BD-4EEE-BAA7-94E9807E88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7AB3B-B24D-47D3-B500-593F237F3D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D24E-4EE9-419A-B581-358DFE48C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CE7-566D-4847-B466-7136656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CBE5-C7CA-42E2-A70D-017F32204D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8961-DCBE-4DCF-A18D-C4CD377DD0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1842-9AED-46EE-9611-69033FC31A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344B-014F-4F55-9A5B-61087E1F98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39DF-E843-43DA-86AB-F5C72D373E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92B-782F-4CF7-9374-DB115A8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1991-0D46-495B-98AF-FAE8EFA4FC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447-5CA9-4D06-A368-CCA7162CD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D5E-2915-47C6-BC93-512DC54F6FE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slayd_tit_down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layd_tit_down"/>
          <p:cNvPicPr/>
          <p:nvPr/>
        </p:nvPicPr>
        <p:blipFill>
          <a:blip r:embed="rId3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ayd_tit_down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790-B47D-4A6F-821D-150C6C8CE3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1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5FDB-EF5F-48E5-88F2-6B13FE3AD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2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F97-E02F-4365-94C4-C0F7415C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slayd_tit"/>
          <p:cNvPicPr/>
          <p:nvPr/>
        </p:nvPicPr>
        <p:blipFill>
          <a:blip r:embed="rId4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layd_tit_down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slayd_tit"/>
          <p:cNvPicPr/>
          <p:nvPr/>
        </p:nvPicPr>
        <p:blipFill>
          <a:blip r:embed="rId6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slayd_tit_down"/>
          <p:cNvPicPr/>
          <p:nvPr/>
        </p:nvPicPr>
        <p:blipFill>
          <a:blip r:embed="rId7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95280" y="620280"/>
            <a:ext cx="7956720" cy="528948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2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65E-E8C1-4DC5-A433-A3593C05C182}" type="slidenum">
              <a:rPr b="0" lang="ru-RU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24000" y="260280"/>
            <a:ext cx="8135640" cy="74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О создании и организации системы внутреннего обеспечения соответствия требованиям антимонополь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( Антимонопольный комплаен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Князева Ири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Доктор экономических наук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Центр исследования конкурентной политик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СИУ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Новосибирск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Национальный  план развития конкуренции в Российской Федерации на 2018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2020 годы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50920" y="981000"/>
            <a:ext cx="8555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  <a:ea typeface="Arial"/>
              </a:rPr>
              <a:t>1. 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ограничение создания унитарных предприятий на конкурентных рынка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2. запрет прямого или косвенного приобретения государством и муниципальными образованиями акций и долей хозяйственных обществ, осуществляющих деятельность на товарных рынках в условиях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3. правовое регулирование системы внутреннего обеспечения соответствия требованиям антимонопольного законодательства  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4. в каждом субъекте Федерации разработка дорожной карты по развитию конкуренци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5. обеспечение во всех отраслях экономики РФ присутствия не менее трех хозяйствующих субъектов, не менее чем один из которых относится к частному бизнесу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6. разработка конкурентного законодательства на цифровых рынках</a:t>
            </a:r>
            <a:r>
              <a:rPr b="0" lang="ru-RU" sz="2600" spc="-1" strike="noStrike">
                <a:solidFill>
                  <a:srgbClr val="3f3f3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c00000"/>
                </a:solidFill>
                <a:latin typeface="Arial"/>
              </a:rPr>
              <a:t>https://fas.gov.ru/pages/vazhnaya-informacziya/standart-razvitiya-konkurenczii/standart-test-one.html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155-61EC-47BB-8DB3-8E3F7E62DF6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4080" y="1052640"/>
            <a:ext cx="8574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ы, на которые распространяется сфера применения  Федерального закона РФ № 135-ФЗ «О Защите конкуренции»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1392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Федеральные органы исполнительной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государственной власти субъектов Российской Федераци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местного самоуправления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равненные к ним органы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Центральный банк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енсионные фон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Перечень организационно-распорядительных  и информационно-справочных документов, в отношении которых может осуществляться  антимонопольный надзор и контроль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иказ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ото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Распоря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Догов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о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И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нтиконкурентные акты и действия органов власти  в соответствии с 135 –ФЗ «О защите конкуренции»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ГЛАВА 3. СТ.1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ЧИВАЮЩИЕ КОНКУРЕНЦИЮ АКТЫ И ДЕЙСТВИЯ (БЕЗДЕЙСТВИЯ)  ФОИВ, ОРГАНОВ ГОСУДАРСТВЕННОЙ ВЛАСТИ СУБЪЕКТОВ РФ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МЕСТНОГО САМОУПРАВЛЕНИЯ, ИНЫХ НАДЕЛЕННЫХ ФУНКЦИЯМИ ИЛИ ПРАВАМИ УКАЗАННЫХ ОРГАНОВ ВЛАСТИ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В ИЛИ ОРГАНИЗАЦИЙ, УЧАСТВУЮЩИХ В ПРЕДОСТАВЛЕНИИ ГОСУДАРСТВЕННЫХ И МУНИЦИПАЛЬНЫХ УСЛУГ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СТ. 16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ВАЮЩИЕ КОНКУРЕНЦИЮ СОГЛАШЕНИЯ  ИЛИ СОГЛАСОВАННЫЕ ДЕЙСТВИЯ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. 4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ТИМОНОПОЛЬНЫЕ ТРЕБОВАНИЯ К ТОРГАМ ГОСУДАРСТВЕННЫМ И МУНИЦИПАЛЬНЫМ ИМУЩЕСТВОМ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АВА 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Ь ЗА ГОСУДАРСТВЕННЫМИ И МУНИЦИПАЛЬНЫМИ ПРЕФЕРЕНЦИЯМ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77E5-17DE-4919-A2E8-2CDEC9385E4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2D5-9D94-4D55-803F-1C3FF196D3A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еречень запрещенных актов и действия органов власти, направленных на ограничение конкуренции ( ст.15 гл.3)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69800" y="692280"/>
            <a:ext cx="856944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ограничения в отношении создания новых ХС в какой-либо сфере деятельности, а также установление запретов  или введение  ограничении в отношении осуществления отдельных видов деятельности или производства определенных видов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900000" y="5013360"/>
            <a:ext cx="79200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едоставление государственной или муниципальной  преференции в нарушение требований  гл. 5 ; создание дискриминационных услов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900000" y="4076640"/>
            <a:ext cx="792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авать ХС указания о первоочередной поставке товаров (выполнение работ, оказание услуг) определенному кругу покупателей (заказчиков) или о приоритетном заключении догово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900000" y="3213000"/>
            <a:ext cx="770904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и взимать не установленные законодательством РФ платежи при предоставлении государственных и муниципальных услуг, а также услуг , необходимых и сопутству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900000" y="5734080"/>
            <a:ext cx="778032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доставлять отдельному ХС или нескольким ХС льготы, ставящие их в преимущественное положение по отношению к другим ХС, работающим на рынок того же тов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900000" y="1700280"/>
            <a:ext cx="7704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запреты или введение  ограничений  в отношении перемещения товаров из одного региона РФ  в другой или иным образом ограничить права ХС на продажу (приобретение, покупку, обмен) тов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900000" y="2716200"/>
            <a:ext cx="7709040" cy="2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пятствовать осуществлению деятельности ХС в какой-либо сфе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250920" y="40464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250920" y="602136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304920" y="530064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304920" y="443700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250920" y="350028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250920" y="285264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6"/>
          <p:cNvSpPr/>
          <p:nvPr/>
        </p:nvSpPr>
        <p:spPr>
          <a:xfrm>
            <a:off x="304920" y="20606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692280" y="617364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133200" y="112860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2DB-EC90-4D93-8DB4-D06955DDBAC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руктура возбужденных дел в отношении антиконкурентных актов и действий органов власти в 2018г. по системе ФАС России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496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648320" y="981000"/>
          <a:ext cx="3886200" cy="5400720"/>
        </p:xfrm>
        <a:graphic>
          <a:graphicData uri="http://schemas.openxmlformats.org/drawingml/2006/table">
            <a:tbl>
              <a:tblPr/>
              <a:tblGrid>
                <a:gridCol w="284040"/>
                <a:gridCol w="360216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основанное препятствование осуществлению деятельности х/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деление х/с властными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ограничений в выборе продав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доставление  государственной или муниципальной пре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вмещение функций органов власти с функциями х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запретов на перемещение, продажу това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казания  о  приоритетной поставке товаров, заключении дого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граничение на создание новых х/с, установление запретов на отдельные виды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инамика нарушений антимонопольного законодательства  органами власти всех уровней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0E97-3287-4290-8BD9-8656E2C4F01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46120" y="1628640"/>
            <a:ext cx="7110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збуждено дел о нарушении антимонопольного законодательства (2014-2018)*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0" y="6467400"/>
            <a:ext cx="6875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929-B18F-4ADB-982C-6390CC9EEA9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* Материалы  Государственного доклада о состоянии конкуренции 2018 г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55440" y="1197000"/>
            <a:ext cx="883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692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института предупреждения и предостережения, распространение его на действия органов государственной власти и местного самоуправления с 2016 г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15, 39.1,25.7"О защите конкуре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)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механизм оперативного устранения антимонопольных правонарушений со стороны должностных лиц органов власти (ст.25.7)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другой стороны - механизм ужесточе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вторном нарушении штраф от 30 до 50 тыс. руб. или дисквалификация до 3 лет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53F-37F9-40C9-B6EA-230BD6175E7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D3E4-051A-4B6E-A96B-476746C3DD7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еятельность государства должна быть направлена на совершенствование рынка, а не на отмену или обход его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Дж.Гэлбрэйт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58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39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 Предупреждение о прекращении действий (бездействия), которые содержат признаки нарушения АМЗ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пресечения нарушений в сфере предпринимательской деятельности, антимонопольный орган выдает ФОИВ, органу государственной власти субъекта РФ, органу МСУ, иным осуществляющим функции указанных органов органу или организации, организации, участвующей в предоставлении государственных или муниципальных услуг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нной форме о прекращении действий (бездействия), об отмене или изменении актов, которые содержат признаки нарушения АМЗ, либо об устранении причин и условий, способствовавших возникновению такого нарушения, и о принятии мер по устранению последствий такого нарушения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ается 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цам, в случае выявления признаков нарушения 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ст.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Arial"/>
                <a:hlinkClick r:id="rId1" action="ppaction://hlinksldjump"/>
              </a:rPr>
              <a:t>15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A75-86DF-4711-AF1E-A95518F9DD4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о нарушений антимонопольного законодательства (2014-2018 гг)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1AE5-FFCB-4AF4-B86A-2FFCF0A2E2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04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отношение возбужденных дел и выданных предупреждени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248-6B07-485B-8FB1-54B0B23B88A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6320" y="1125360"/>
            <a:ext cx="8816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ичество выданных и исполненных предупреждений , всего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131-71FF-4187-93E6-08FC59D7D21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6880" y="2133720"/>
            <a:ext cx="8566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ля исполненных предупреждений по различным видам нарушений АМЗ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4CA-5D7F-4F49-9F87-C0097E5C629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30040" y="1484280"/>
            <a:ext cx="83026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712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правления предостережения , в т.ч. должностным лицам ФОИВ, органа государственной власти субъекта РФ, органа МСУ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9AE-7439-4DCA-A236-77211B33456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20560" y="1700280"/>
            <a:ext cx="7796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ечение ограничивающих конкуренцию действий (бездействия) органов государственной власти и органов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282-427A-4D33-95CE-5203B3C5FDA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82600" y="2060640"/>
            <a:ext cx="865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89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глашения с участием органов государственной власти и 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A17-1C0C-4547-BFA8-159C5FBD268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буждено дел о преференциях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5935-7523-40BA-B8E9-67E7C1476DA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03040" y="1413000"/>
            <a:ext cx="8256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10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езультаты рассмотрения заявлений о предоставлении преференций в  2018  г</a:t>
            </a: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E98-0FB8-4743-BB72-3362604C121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09600" y="1125360"/>
            <a:ext cx="82231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554-1075-4EED-A3EE-246987176AE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7487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Перечень законов, контроль  исполнение которых осуществляет ФАС России</a:t>
            </a:r>
            <a:r>
              <a:rPr b="0" lang="ru-RU" sz="4200" spc="-1" strike="noStrike">
                <a:solidFill>
                  <a:srgbClr val="7388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24"/>
          <p:cNvGraphicFramePr/>
          <p:nvPr/>
        </p:nvGraphicFramePr>
        <p:xfrm>
          <a:off x="244440" y="701640"/>
          <a:ext cx="80121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701640"/>
                    <a:ext cx="80121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атья 39. Основания для возбуждения дела о нарушении антимонопольного законодательства (АМЗ)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е из государственных органов, органов местного самоуправления материалов, указывающих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явление юридического или физического лица, указывающее на признаки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наружение антимонопольным органом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общение средства массовой информации, указывающее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зультат проверки, при проведении которой выявлены признаки нарушения АМЗ федеральными органами исполнительной власти, органами государственной власти субъектов РФ, органами местного самоуправления, иными осуществляющими функции указанных органов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2E4-1895-4979-8EB2-DF241A6DAC0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уктура и количество выданных предписаний органам власти разных уровне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840720" cy="2622600"/>
          </a:xfrm>
          <a:prstGeom prst="rect">
            <a:avLst/>
          </a:prstGeom>
          <a:ln w="0">
            <a:noFill/>
          </a:ln>
        </p:spPr>
      </p:pic>
      <p:sp>
        <p:nvSpPr>
          <p:cNvPr id="44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B81-FD46-4A4F-8EDD-463F4D0BA70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11280" y="4076640"/>
          <a:ext cx="7777080" cy="1123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ами в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д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3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2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A4F2-7300-4806-BBF4-70D970FEB6A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осударственные или муниципальные преференции могут быть предоставлены на основании правовых актов органов власти исключительно в целях:</a:t>
            </a:r>
            <a:br>
              <a:rPr sz="1800"/>
            </a:br>
            <a:endParaRPr b="0" lang="en-US" sz="1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) обеспечения жизнедеятельности населения в районах Крайнего Севера и приравненных к ним местностях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2) развития образования и наук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3) проведения научных исследовани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4) защиты окружающей среды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5) сохранения, использования, популяризации и государственной охраны объектов культурного наследия (памятников истории и культуры) народов Российской Федера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6) развития культуры, искусства и сохранения культурных ценносте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7) развития физической культуры и спорт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8) обеспечения обороноспособности страны и безопасности государ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9) производства сельскохозяйственной продук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0) социальной защиты населения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1) охраны труд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2) охраны здоровья граждан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3) поддержки субъектов малого и среднего предприниматель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4) определяемых другими ФЗ, нормативными правовыми актами Президента РФ и нормативными правовыми актами Правительства РФ.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184E-2D42-4197-B92C-C783916DC30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691920"/>
            <a:ext cx="7925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овторяющиеся нарушения антимонопольного законодательства со стороны органов власти и местного самоуправления являются опасной тенденцией, которая представляет постоянную угрозу конкуренции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еред антимонопольным ведомством стоит важная задача - усиление антимонопольного контроля за деятельностью органов государственной власти. «Повышена административная ответственность для государственных и муниципальных служащих за нарушение антимонопольного законодательства: введена дисквалификация в качестве меры ответственности», - отмечал в своем докладе руководитель ФАС России Игорь Артемьев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34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Антимонопольный комплаенс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5280" y="980640"/>
            <a:ext cx="8748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истема внутреннего предупреждения нарушений антимонопольного законодательства.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авовых и организационных мер (регламент), предусмотренных внутренним актом хозяйствующего субъекта или органа власти, которые  направлены на соблюдение требований антимонопольного законодательства и предупреждение его наруш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DE40-2084-4EF3-B43B-0872CDA4AAB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нципы антимонопольного комплаенса</a:t>
            </a:r>
            <a:r>
              <a:rPr b="0" lang="ru-RU" sz="3200" spc="-1" strike="noStrike">
                <a:solidFill>
                  <a:srgbClr val="738899"/>
                </a:solidFill>
                <a:latin typeface="Arial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83664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заинтересованность руководства ОВ в эффективности функционирования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регулярность оценки рисков нарушения антимонопольного законодательств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беспечение информационной открытости функционирования в ОВ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непрерывность функционирования антимонопольного комплаенса в ОВ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вершенствование антимонопольного комплаенса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1B0-E21E-4651-8841-6CA743AC94C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еречень определяющих документов: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8920" y="765000"/>
            <a:ext cx="8355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Распоряжение Правительства РФ от 18 октября 2018 г. № 2258-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иказ Федеральной антимонопольной службы от 27 ноября 2018 г. № 1646/18 «О системе внутреннего обеспечения соответствия требованиям антимонопольного законодательства в ФАС России (антимонопольном комплаенсе)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оручение руководителя ФАС России от 19.12.2018 № 01-047-РП/п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F00-324B-4D18-BCB4-BDF459B2A54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980640"/>
            <a:ext cx="8283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Стандарт развития конкуренции в субъектах Российской Федерации, утвержденный распоряжением Правительства Российской Федерации от 17 апреля 2019 г. No 768-р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Дорожная карта развития конкуренции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Разработка системы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160-C1E4-4055-9FB6-639FA69DC73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Указ Президента РФ от 21 декабря 2017 г. № 618 «Об основных направлениях государственной политики по развитию конкуренции»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лючевой показатель Национального плана развития конкурен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- снижение количества нарушений антимонопольного законодательства со стороны органов государственной власти и органов местного самоуправления к 2020 году не менее чем в 2 раза по сравнению с 2017 годом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Основополагающие </a:t>
            </a: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принципы государственной политики по развитию конкуренции,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оторыми необходимо руководствоваться при внедрении антимонопольного комплаенса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крытость антимонопольной политик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ветственность органов государственной власти и органов местного самоуправления за реализацию государственной политики по развитию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измеримость результатов государственной политики по развитию конкуренции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D80-82E3-4001-AA09-4EEF6332CF1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В целях реализации основных направлений государственной политики по развитию конкуренции Указом № 618 поруче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   ФОИВ     Срок до 1 марта 2019 года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Высшим должностным лицам (руководителям высших исполнительных органов гос. власти) субъектов РФ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органов исполнительной власти субъектов РФ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Срок до 1 марта 2019 г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Органам местного самоуправления рекомендова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активизировать работу по развитию конкуренции в муниципальных образования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обеспечить в своей деятельности приоритет целей и задач по развитию конкуренции на товарных рынках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676C-AD33-4847-B9CC-28508DC3D3F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 как регулятор рыночных отношений может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ть через систему соответствующих институтов эффективное состояние экономики территории и оправданное состояние конкурентной сре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определенные препятствия в виде административных барьеров для деятельности отдельных субъектов рынка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409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опрос 2 Направления реализации АК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1700280"/>
            <a:ext cx="799632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1.</a:t>
            </a: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тандарта/Кодекса  добросовестной конкурентной практики (типового и адаптированного  бизнесу)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элементов АК в виде обязательных стандартизированных процедур для органов власти разных уровней и включение их  в «Стандарт развития конкуренции», как важный содержательный элемент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истемы взаимодействия с МинЭК, ФАС России, АСИ в части включения в систему публичных мероприятий, нормативных актов (дорожных карт),  документов , направленных на развитие конкуренции  ( в т.ч. «Стандарт развития конкуренции») содержательных положений по АК 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907920"/>
          <a:ext cx="8569080" cy="518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бизн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утрен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окращение ущерба от штрафных санк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нижение операционных и правов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Экономически-правовое обоснование стратегии и тактики развития и функцион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554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еш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Формирование позитивного  бизнес-имиджа с положительной историей сотрудни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Снижение рисков коррупционного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50920" y="836640"/>
          <a:ext cx="8713800" cy="55688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нижение антиконкурентных поведений: актов, действий, бездейст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 условий для формирования благоприятного предпринимательского клим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Формирование позитивного имид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Мотивация к снижению коррупционн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отрудничество с антимонопольным  орган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08000" y="620640"/>
          <a:ext cx="8856720" cy="603432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493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регуля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88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окращение количества дел, связанных с нарушением АМ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1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Увеличение практик предостережения и предупреж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398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Формирование  системы обратной связи с представителями бизнеса и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47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Концентрация усилий на защите конкуренции через механизмы адвокат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21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Участие в формировании политики по созданию благоприятных условий для развития бизн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1267920"/>
            <a:ext cx="7994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Актуальные проблемы внедрения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000" spc="-1" strike="noStrike">
                <a:solidFill>
                  <a:srgbClr val="c00000"/>
                </a:solidFill>
                <a:latin typeface="Arial"/>
              </a:rPr>
              <a:t>https://fas.gov.ru/extended_search?utf8=%E2%9C%93&amp;filter_materials%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C7D-6E4D-408B-BF6D-65731AE5289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7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f3f3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1D1E-521E-422B-A6FF-0551FDF8A100}" type="slidenum">
              <a:rPr b="0" lang="en-US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Конституция РФ содержит ряд норм, обеспечивающих реализацию полномочий антимонопольных органов в сфере выполнения контрольных функций, связанных с развитием рыночной конкуренции и недопущением антиконкурентных действий со стороны органов власти различного уровня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362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8 гарантирует единство экономического пространства, свободу перемещения товаров, услуг и финансовых средств, поддержку конкуренции, свободу экономической деятельност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34  не допускается экономическая деятельность, направленная на монополизацию и недобросовестную конкуренцию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74 не допускается установление на территории Российской Федерации таможенных границ, пошлин, сборов и каких-либо иных препятствий для свободного перемещения товаров, услуг и финансовых средств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Органы государственной власти и местного самоуправления не всегда находят адекватные рыночной экономике пути взаимоотношений с хозяйствующими субъектами. Эт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компенсируется :</a:t>
            </a:r>
            <a:endParaRPr b="0" lang="en-US" sz="2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нятием подзаконных актов по вопросам лицензирования, квотирова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усложняется порядок регистрации предприятий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здаются препятствия в распределении земельных участков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едоставляются необоснованные преференции и др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Реализуя конституционные гарантии, закрепленные в статье 132 Конституции РФ, органы местного самоуправления имеют право «самостоятельно управлять муниципальной собственностью, формировать, утверждать и исполнять местный бюджет, устанавливать местные налоги и сборы, осуществлять охрану общественного порядка, а также решать иные вопросы местного значения»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В гл. 3 статьях 14-16 №131-ФЗ перечислен широкий спектр вопросов местного значения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поселений 34 вида деятельности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муниципальных районов – 28 видов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городских округов – 26 видов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л. 3 статьях 14-16 №131-ФЗ выделяются вопросы социального, технологического, экологического и экономического значения. Наиболее значимыми вопросами экономического значения являются</a:t>
            </a: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налоговое регулирование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ладение, пользование и распоряжение имуществом, находящимся в муниципальной собственности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в границах муниципального района электро- и газоснабжения поселен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едоставления транспортных услуг населению и организация транспортного обслуживания;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создание условий для обеспечения жителей услугами связи, общественного питания, торговли и бытового обслуживания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ыдача разрешений на установку рекламных конструкц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ритуальных услуг и содержание мест захоронения и др.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928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каз Президента РФ №618 «Об основных направлениях государственной политики по развитию конкуренции» от 21.12. 2017 г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640" y="1526760"/>
            <a:ext cx="87850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f3f3f"/>
                </a:solidFill>
                <a:latin typeface="Arial"/>
              </a:rPr>
              <a:t>1. </a:t>
            </a: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Считать активное содействие развитию конкуренции в РФ приоритетным направлением деятельности Президента Российской Федерации, Федерального Собрания, Правительства , федеральных органов исполнительной власти, законодательных и исполнительных органов государственной власти субъектов РФ, а также органов местного самоуправления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2. Определить, что целями совершенствования государственной политики по развитию конкуренции являются: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а) повышение удовлетворенности потребителей за счет расширения ассортимента товаров, услуг, повышения их качества и снижения цен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б) повышение экономической эффективности и конкурентоспособности хозяйствующих субъектов…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в) стабильный рост и развитие многоукладной экономики…, снижение социальной напряженности в обществе, обеспечение национальной безопасности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 Князева</cp:lastModifiedBy>
  <dcterms:modified xsi:type="dcterms:W3CDTF">2019-06-18T22:07:40Z</dcterms:modified>
  <cp:revision>319</cp:revision>
  <dc:subject/>
  <dc:title>Презентация PowerPoint</dc:title>
</cp:coreProperties>
</file>